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267-1AC9-452E-A69C-E7804796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759-4664-4635-A0E6-B3B99FEB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0DD-5AF8-465B-A319-A015A593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381-47E7-4507-AE88-FC7C8CD4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981-FB59-405B-AD88-13DF5C75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5E7-6EBA-4B83-B2AA-BA53BD81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BE6-EDBB-4D95-8D25-4459599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BCB-1671-44BB-952C-3E4D8EC5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ACF-2BE4-4828-B058-D9F3E8B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970-C5E6-4DCE-9466-DBC5F2A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D9B-C390-418E-92B3-6CA71E8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CBF-F59E-41C0-99BD-C6DD065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A64E4-1A53-4E22-B491-37E5685B70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2400" y="539280"/>
            <a:ext cx="8607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Сергеева  Марина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2518920"/>
            <a:ext cx="84186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УЧЕНИЦА  НЕДЕЛ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5 Б 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 Black"/>
              </a:rPr>
              <a:t>15-20  мая  2011го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5580000"/>
            <a:ext cx="2700360" cy="10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0720" y="3959280"/>
            <a:ext cx="2519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Интересные  факты  о Мар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2138400"/>
            <a:ext cx="41068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День  рождения    Марины 8 ян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У Марины есть  старший  брат 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играть  в  шахм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путеше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00720" y="1800360"/>
            <a:ext cx="633600" cy="736200"/>
            <a:chOff x="6300720" y="1800360"/>
            <a:chExt cx="633600" cy="736200"/>
          </a:xfrm>
        </p:grpSpPr>
        <p:sp>
          <p:nvSpPr>
            <p:cNvPr id="87" name=""/>
            <p:cNvSpPr/>
            <p:nvPr/>
          </p:nvSpPr>
          <p:spPr>
            <a:xfrm>
              <a:off x="6300720" y="2454480"/>
              <a:ext cx="633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52920" y="2372040"/>
              <a:ext cx="525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52920" y="2292840"/>
              <a:ext cx="525600" cy="80640"/>
            </a:xfrm>
            <a:custGeom>
              <a:avLst/>
              <a:gdLst/>
              <a:ahLst/>
              <a:rect l="l" t="t" r="r" b="b"/>
              <a:pathLst>
                <a:path w="1466" h="227">
                  <a:moveTo>
                    <a:pt x="0" y="226"/>
                  </a:moveTo>
                  <a:lnTo>
                    <a:pt x="164" y="0"/>
                  </a:lnTo>
                  <a:lnTo>
                    <a:pt x="1310" y="0"/>
                  </a:lnTo>
                  <a:lnTo>
                    <a:pt x="1465" y="226"/>
                  </a:lnTo>
                  <a:lnTo>
                    <a:pt x="0" y="226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11600" y="2048760"/>
              <a:ext cx="411480" cy="245160"/>
            </a:xfrm>
            <a:prstGeom prst="roundRect">
              <a:avLst>
                <a:gd name="adj" fmla="val 648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41760" y="1961640"/>
              <a:ext cx="549360" cy="90360"/>
            </a:xfrm>
            <a:custGeom>
              <a:avLst/>
              <a:gdLst/>
              <a:ahLst/>
              <a:rect l="l" t="t" r="r" b="b"/>
              <a:pathLst>
                <a:path w="1528" h="253">
                  <a:moveTo>
                    <a:pt x="190" y="252"/>
                  </a:moveTo>
                  <a:lnTo>
                    <a:pt x="0" y="2"/>
                  </a:lnTo>
                  <a:lnTo>
                    <a:pt x="1527" y="0"/>
                  </a:lnTo>
                  <a:lnTo>
                    <a:pt x="1337" y="252"/>
                  </a:lnTo>
                  <a:lnTo>
                    <a:pt x="190" y="252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43200" y="1800360"/>
              <a:ext cx="547920" cy="163080"/>
            </a:xfrm>
            <a:custGeom>
              <a:avLst/>
              <a:gdLst/>
              <a:ahLst/>
              <a:rect l="l" t="t" r="r" b="b"/>
              <a:pathLst>
                <a:path w="1527" h="452">
                  <a:moveTo>
                    <a:pt x="2" y="451"/>
                  </a:moveTo>
                  <a:lnTo>
                    <a:pt x="0" y="4"/>
                  </a:lnTo>
                  <a:lnTo>
                    <a:pt x="329" y="4"/>
                  </a:lnTo>
                  <a:lnTo>
                    <a:pt x="329" y="296"/>
                  </a:lnTo>
                  <a:lnTo>
                    <a:pt x="575" y="296"/>
                  </a:lnTo>
                  <a:lnTo>
                    <a:pt x="575" y="4"/>
                  </a:lnTo>
                  <a:lnTo>
                    <a:pt x="933" y="4"/>
                  </a:lnTo>
                  <a:lnTo>
                    <a:pt x="931" y="292"/>
                  </a:lnTo>
                  <a:lnTo>
                    <a:pt x="1203" y="292"/>
                  </a:lnTo>
                  <a:lnTo>
                    <a:pt x="1203" y="0"/>
                  </a:lnTo>
                  <a:lnTo>
                    <a:pt x="1525" y="0"/>
                  </a:lnTo>
                  <a:lnTo>
                    <a:pt x="1526" y="451"/>
                  </a:lnTo>
                  <a:lnTo>
                    <a:pt x="2" y="451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59640" y="1979640"/>
            <a:ext cx="1077840" cy="898560"/>
            <a:chOff x="7559640" y="1979640"/>
            <a:chExt cx="1077840" cy="898560"/>
          </a:xfrm>
        </p:grpSpPr>
        <p:sp>
          <p:nvSpPr>
            <p:cNvPr id="94" name=""/>
            <p:cNvSpPr/>
            <p:nvPr/>
          </p:nvSpPr>
          <p:spPr>
            <a:xfrm>
              <a:off x="7559640" y="1979640"/>
              <a:ext cx="1077840" cy="898560"/>
            </a:xfrm>
            <a:custGeom>
              <a:avLst/>
              <a:gdLst/>
              <a:ahLst/>
              <a:rect l="l" t="t" r="r" b="b"/>
              <a:pathLst>
                <a:path w="3094" h="2722">
                  <a:moveTo>
                    <a:pt x="837" y="2721"/>
                  </a:moveTo>
                  <a:cubicBezTo>
                    <a:pt x="837" y="1948"/>
                    <a:pt x="1681" y="2424"/>
                    <a:pt x="1814" y="1632"/>
                  </a:cubicBezTo>
                  <a:cubicBezTo>
                    <a:pt x="759" y="1770"/>
                    <a:pt x="211" y="2393"/>
                    <a:pt x="618" y="1954"/>
                  </a:cubicBezTo>
                  <a:cubicBezTo>
                    <a:pt x="330" y="2175"/>
                    <a:pt x="261" y="2047"/>
                    <a:pt x="80" y="1941"/>
                  </a:cubicBezTo>
                  <a:cubicBezTo>
                    <a:pt x="5" y="1838"/>
                    <a:pt x="0" y="1842"/>
                    <a:pt x="536" y="1308"/>
                  </a:cubicBezTo>
                  <a:cubicBezTo>
                    <a:pt x="536" y="1106"/>
                    <a:pt x="799" y="763"/>
                    <a:pt x="722" y="854"/>
                  </a:cubicBezTo>
                  <a:cubicBezTo>
                    <a:pt x="869" y="577"/>
                    <a:pt x="616" y="598"/>
                    <a:pt x="554" y="381"/>
                  </a:cubicBezTo>
                  <a:cubicBezTo>
                    <a:pt x="711" y="350"/>
                    <a:pt x="986" y="674"/>
                    <a:pt x="1010" y="691"/>
                  </a:cubicBezTo>
                  <a:cubicBezTo>
                    <a:pt x="1082" y="515"/>
                    <a:pt x="1300" y="88"/>
                    <a:pt x="1298" y="262"/>
                  </a:cubicBezTo>
                  <a:cubicBezTo>
                    <a:pt x="1282" y="1068"/>
                    <a:pt x="3093" y="0"/>
                    <a:pt x="3043" y="2719"/>
                  </a:cubicBezTo>
                  <a:cubicBezTo>
                    <a:pt x="2081" y="2719"/>
                    <a:pt x="1801" y="2721"/>
                    <a:pt x="837" y="2721"/>
                  </a:cubicBezTo>
                </a:path>
              </a:pathLst>
            </a:custGeom>
            <a:solidFill>
              <a:srgbClr val="e5e5e5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260000">
              <a:off x="7826400" y="2343600"/>
              <a:ext cx="1288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020000">
              <a:off x="7633440" y="2589480"/>
              <a:ext cx="68760" cy="3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19640" y="5400720"/>
            <a:ext cx="1438200" cy="1077480"/>
            <a:chOff x="4319640" y="5400720"/>
            <a:chExt cx="1438200" cy="10774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959360" y="5400720"/>
              <a:ext cx="6130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9920" y="5505120"/>
              <a:ext cx="685800" cy="885960"/>
            </a:xfrm>
            <a:custGeom>
              <a:avLst/>
              <a:gdLst/>
              <a:ahLst/>
              <a:rect l="l" t="t" r="r" b="b"/>
              <a:pathLst>
                <a:path w="1912" h="2471">
                  <a:moveTo>
                    <a:pt x="177" y="2470"/>
                  </a:moveTo>
                  <a:cubicBezTo>
                    <a:pt x="274" y="1705"/>
                    <a:pt x="859" y="1070"/>
                    <a:pt x="939" y="864"/>
                  </a:cubicBezTo>
                  <a:cubicBezTo>
                    <a:pt x="333" y="1120"/>
                    <a:pt x="232" y="1208"/>
                    <a:pt x="177" y="1323"/>
                  </a:cubicBezTo>
                  <a:cubicBezTo>
                    <a:pt x="194" y="1204"/>
                    <a:pt x="177" y="901"/>
                    <a:pt x="853" y="749"/>
                  </a:cubicBezTo>
                  <a:cubicBezTo>
                    <a:pt x="732" y="607"/>
                    <a:pt x="327" y="649"/>
                    <a:pt x="0" y="366"/>
                  </a:cubicBezTo>
                  <a:cubicBezTo>
                    <a:pt x="128" y="404"/>
                    <a:pt x="774" y="272"/>
                    <a:pt x="921" y="645"/>
                  </a:cubicBezTo>
                  <a:cubicBezTo>
                    <a:pt x="961" y="416"/>
                    <a:pt x="1282" y="70"/>
                    <a:pt x="1374" y="0"/>
                  </a:cubicBezTo>
                  <a:cubicBezTo>
                    <a:pt x="1573" y="470"/>
                    <a:pt x="1005" y="607"/>
                    <a:pt x="1078" y="705"/>
                  </a:cubicBezTo>
                  <a:cubicBezTo>
                    <a:pt x="1332" y="502"/>
                    <a:pt x="1863" y="328"/>
                    <a:pt x="1911" y="356"/>
                  </a:cubicBezTo>
                  <a:cubicBezTo>
                    <a:pt x="1785" y="733"/>
                    <a:pt x="1445" y="709"/>
                    <a:pt x="1149" y="793"/>
                  </a:cubicBezTo>
                  <a:cubicBezTo>
                    <a:pt x="1633" y="709"/>
                    <a:pt x="1566" y="1421"/>
                    <a:pt x="1725" y="1432"/>
                  </a:cubicBezTo>
                  <a:cubicBezTo>
                    <a:pt x="1465" y="1569"/>
                    <a:pt x="1177" y="756"/>
                    <a:pt x="1052" y="869"/>
                  </a:cubicBezTo>
                  <a:cubicBezTo>
                    <a:pt x="926" y="1164"/>
                    <a:pt x="630" y="1755"/>
                    <a:pt x="732" y="2345"/>
                  </a:cubicBezTo>
                  <a:cubicBezTo>
                    <a:pt x="549" y="2345"/>
                    <a:pt x="361" y="2470"/>
                    <a:pt x="177" y="247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19640" y="6302520"/>
              <a:ext cx="1438200" cy="175680"/>
            </a:xfrm>
            <a:custGeom>
              <a:avLst/>
              <a:gdLst/>
              <a:ahLst/>
              <a:rect l="l" t="t" r="r" b="b"/>
              <a:pathLst>
                <a:path w="4014" h="489">
                  <a:moveTo>
                    <a:pt x="0" y="476"/>
                  </a:moveTo>
                  <a:cubicBezTo>
                    <a:pt x="157" y="238"/>
                    <a:pt x="895" y="0"/>
                    <a:pt x="2000" y="0"/>
                  </a:cubicBezTo>
                  <a:cubicBezTo>
                    <a:pt x="3105" y="0"/>
                    <a:pt x="3605" y="201"/>
                    <a:pt x="4000" y="476"/>
                  </a:cubicBezTo>
                  <a:cubicBezTo>
                    <a:pt x="4013" y="488"/>
                    <a:pt x="13" y="488"/>
                    <a:pt x="0" y="476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7960" y="3419640"/>
            <a:ext cx="2460600" cy="2460600"/>
            <a:chOff x="6357960" y="3419640"/>
            <a:chExt cx="2460600" cy="2460600"/>
          </a:xfrm>
        </p:grpSpPr>
        <p:grpSp>
          <p:nvGrpSpPr>
            <p:cNvPr id="102" name=""/>
            <p:cNvGrpSpPr/>
            <p:nvPr/>
          </p:nvGrpSpPr>
          <p:grpSpPr>
            <a:xfrm>
              <a:off x="6357960" y="3419640"/>
              <a:ext cx="2460600" cy="2460600"/>
              <a:chOff x="6357960" y="3419640"/>
              <a:chExt cx="2460600" cy="2460600"/>
            </a:xfrm>
          </p:grpSpPr>
          <p:sp>
            <p:nvSpPr>
              <p:cNvPr id="103" name=""/>
              <p:cNvSpPr/>
              <p:nvPr/>
            </p:nvSpPr>
            <p:spPr>
              <a:xfrm>
                <a:off x="6357960" y="3419640"/>
                <a:ext cx="2460600" cy="2460600"/>
              </a:xfrm>
              <a:prstGeom prst="roundRect">
                <a:avLst>
                  <a:gd name="adj" fmla="val 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6357960" y="3419640"/>
                <a:ext cx="2459160" cy="2459160"/>
                <a:chOff x="6357960" y="3419640"/>
                <a:chExt cx="2459160" cy="24591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6357960" y="3419640"/>
                  <a:ext cx="2459160" cy="2458800"/>
                  <a:chOff x="6357960" y="3419640"/>
                  <a:chExt cx="2459160" cy="24588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9728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2792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5866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9444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20188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850968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5866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9444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20188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50968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20188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50968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357960" y="3419640"/>
                  <a:ext cx="2459160" cy="2459160"/>
                  <a:chOff x="6357960" y="3419640"/>
                  <a:chExt cx="2459160" cy="24591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0">
                    <a:off x="789444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0">
                    <a:off x="758664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0800000">
                    <a:off x="72792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0800000">
                    <a:off x="69717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0800000">
                    <a:off x="66654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0800000">
                    <a:off x="63579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0800000">
                    <a:off x="72792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0800000">
                    <a:off x="69717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0800000">
                    <a:off x="66654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0800000">
                    <a:off x="63579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0800000">
                    <a:off x="66654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0800000">
                    <a:off x="63579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"/>
            <p:cNvGrpSpPr/>
            <p:nvPr/>
          </p:nvGrpSpPr>
          <p:grpSpPr>
            <a:xfrm>
              <a:off x="6426360" y="3467160"/>
              <a:ext cx="160200" cy="187200"/>
              <a:chOff x="6426360" y="3467160"/>
              <a:chExt cx="160200" cy="18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426360" y="363384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860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860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5444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680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6800" y="3467160"/>
                <a:ext cx="140040" cy="41040"/>
              </a:xfrm>
              <a:custGeom>
                <a:avLst/>
                <a:gdLst/>
                <a:ahLst/>
                <a:rect l="l" t="t" r="r" b="b"/>
                <a:pathLst>
                  <a:path w="391" h="115">
                    <a:moveTo>
                      <a:pt x="1" y="114"/>
                    </a:moveTo>
                    <a:lnTo>
                      <a:pt x="0" y="1"/>
                    </a:lnTo>
                    <a:lnTo>
                      <a:pt x="84" y="1"/>
                    </a:lnTo>
                    <a:lnTo>
                      <a:pt x="84" y="75"/>
                    </a:lnTo>
                    <a:lnTo>
                      <a:pt x="147" y="75"/>
                    </a:lnTo>
                    <a:lnTo>
                      <a:pt x="147" y="1"/>
                    </a:lnTo>
                    <a:lnTo>
                      <a:pt x="238" y="1"/>
                    </a:lnTo>
                    <a:lnTo>
                      <a:pt x="238" y="74"/>
                    </a:lnTo>
                    <a:lnTo>
                      <a:pt x="307" y="74"/>
                    </a:lnTo>
                    <a:lnTo>
                      <a:pt x="307" y="0"/>
                    </a:lnTo>
                    <a:lnTo>
                      <a:pt x="389" y="0"/>
                    </a:lnTo>
                    <a:lnTo>
                      <a:pt x="390" y="114"/>
                    </a:lnTo>
                    <a:lnTo>
                      <a:pt x="1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94640" y="3467160"/>
              <a:ext cx="160560" cy="187200"/>
              <a:chOff x="8594640" y="3467160"/>
              <a:chExt cx="160560" cy="18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594640" y="3633840"/>
                <a:ext cx="160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60868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60868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2308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0544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05440" y="3467160"/>
                <a:ext cx="138240" cy="4104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0" y="114"/>
                    </a:moveTo>
                    <a:lnTo>
                      <a:pt x="0" y="1"/>
                    </a:lnTo>
                    <a:lnTo>
                      <a:pt x="83" y="1"/>
                    </a:lnTo>
                    <a:lnTo>
                      <a:pt x="83" y="75"/>
                    </a:lnTo>
                    <a:lnTo>
                      <a:pt x="146" y="75"/>
                    </a:lnTo>
                    <a:lnTo>
                      <a:pt x="146" y="1"/>
                    </a:lnTo>
                    <a:lnTo>
                      <a:pt x="238" y="1"/>
                    </a:lnTo>
                    <a:lnTo>
                      <a:pt x="237" y="74"/>
                    </a:lnTo>
                    <a:lnTo>
                      <a:pt x="306" y="74"/>
                    </a:lnTo>
                    <a:lnTo>
                      <a:pt x="306" y="0"/>
                    </a:lnTo>
                    <a:lnTo>
                      <a:pt x="388" y="0"/>
                    </a:lnTo>
                    <a:lnTo>
                      <a:pt x="389" y="114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726240" y="3451320"/>
              <a:ext cx="200160" cy="215640"/>
              <a:chOff x="6726240" y="3451320"/>
              <a:chExt cx="200160" cy="215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7262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9" y="393"/>
                    </a:cubicBezTo>
                    <a:cubicBezTo>
                      <a:pt x="142" y="426"/>
                      <a:pt x="39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9" y="183"/>
                      <a:pt x="135" y="205"/>
                    </a:cubicBezTo>
                    <a:cubicBezTo>
                      <a:pt x="163" y="139"/>
                      <a:pt x="114" y="144"/>
                      <a:pt x="104" y="91"/>
                    </a:cubicBezTo>
                    <a:cubicBezTo>
                      <a:pt x="133" y="84"/>
                      <a:pt x="184" y="162"/>
                      <a:pt x="188" y="167"/>
                    </a:cubicBezTo>
                    <a:cubicBezTo>
                      <a:pt x="202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8" y="655"/>
                    </a:cubicBezTo>
                    <a:cubicBezTo>
                      <a:pt x="388" y="655"/>
                      <a:pt x="336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720000">
                <a:off x="6775200" y="3538800"/>
                <a:ext cx="24480" cy="1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780000">
                <a:off x="6740640" y="359784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285040" y="3451320"/>
              <a:ext cx="200160" cy="215640"/>
              <a:chOff x="8285040" y="3451320"/>
              <a:chExt cx="200160" cy="21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82850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8" y="393"/>
                    </a:cubicBezTo>
                    <a:cubicBezTo>
                      <a:pt x="141" y="426"/>
                      <a:pt x="38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8" y="183"/>
                      <a:pt x="134" y="205"/>
                    </a:cubicBezTo>
                    <a:cubicBezTo>
                      <a:pt x="162" y="139"/>
                      <a:pt x="114" y="144"/>
                      <a:pt x="103" y="91"/>
                    </a:cubicBezTo>
                    <a:cubicBezTo>
                      <a:pt x="132" y="84"/>
                      <a:pt x="183" y="162"/>
                      <a:pt x="188" y="167"/>
                    </a:cubicBezTo>
                    <a:cubicBezTo>
                      <a:pt x="201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7" y="655"/>
                    </a:cubicBezTo>
                    <a:cubicBezTo>
                      <a:pt x="388" y="655"/>
                      <a:pt x="335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720000">
                <a:off x="8333640" y="3539520"/>
                <a:ext cx="24480" cy="1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720000">
                <a:off x="8298000" y="359748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4166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5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9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62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58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468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5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4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64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660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4" y="24"/>
                    <a:pt x="164" y="0"/>
                    <a:pt x="187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4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756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672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3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313760" y="3462480"/>
              <a:ext cx="234360" cy="196200"/>
              <a:chOff x="7313760" y="3462480"/>
              <a:chExt cx="234360" cy="196200"/>
            </a:xfrm>
          </p:grpSpPr>
          <p:sp>
            <p:nvSpPr>
              <p:cNvPr id="194" name=""/>
              <p:cNvSpPr/>
              <p:nvPr/>
            </p:nvSpPr>
            <p:spPr>
              <a:xfrm>
                <a:off x="7403760" y="3462480"/>
                <a:ext cx="55800" cy="4824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66" y="133"/>
                    </a:moveTo>
                    <a:lnTo>
                      <a:pt x="66" y="81"/>
                    </a:lnTo>
                    <a:lnTo>
                      <a:pt x="0" y="99"/>
                    </a:lnTo>
                    <a:lnTo>
                      <a:pt x="0" y="39"/>
                    </a:lnTo>
                    <a:lnTo>
                      <a:pt x="64" y="59"/>
                    </a:lnTo>
                    <a:lnTo>
                      <a:pt x="51" y="0"/>
                    </a:lnTo>
                    <a:lnTo>
                      <a:pt x="114" y="0"/>
                    </a:lnTo>
                    <a:lnTo>
                      <a:pt x="99" y="59"/>
                    </a:lnTo>
                    <a:lnTo>
                      <a:pt x="167" y="37"/>
                    </a:lnTo>
                    <a:lnTo>
                      <a:pt x="167" y="98"/>
                    </a:lnTo>
                    <a:lnTo>
                      <a:pt x="101" y="78"/>
                    </a:lnTo>
                    <a:lnTo>
                      <a:pt x="101" y="135"/>
                    </a:lnTo>
                    <a:lnTo>
                      <a:pt x="101" y="132"/>
                    </a:lnTo>
                    <a:lnTo>
                      <a:pt x="66" y="13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10960" y="3507480"/>
                <a:ext cx="39600" cy="8496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27160" y="3512520"/>
                <a:ext cx="120960" cy="9720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116" y="257"/>
                    </a:moveTo>
                    <a:cubicBezTo>
                      <a:pt x="38" y="246"/>
                      <a:pt x="0" y="191"/>
                      <a:pt x="38" y="122"/>
                    </a:cubicBezTo>
                    <a:cubicBezTo>
                      <a:pt x="76" y="53"/>
                      <a:pt x="171" y="0"/>
                      <a:pt x="249" y="3"/>
                    </a:cubicBezTo>
                    <a:cubicBezTo>
                      <a:pt x="327" y="6"/>
                      <a:pt x="362" y="65"/>
                      <a:pt x="324" y="134"/>
                    </a:cubicBezTo>
                    <a:cubicBezTo>
                      <a:pt x="286" y="203"/>
                      <a:pt x="213" y="274"/>
                      <a:pt x="11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3760" y="3513960"/>
                <a:ext cx="12060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257"/>
                    </a:moveTo>
                    <a:cubicBezTo>
                      <a:pt x="324" y="246"/>
                      <a:pt x="362" y="191"/>
                      <a:pt x="324" y="122"/>
                    </a:cubicBezTo>
                    <a:cubicBezTo>
                      <a:pt x="286" y="53"/>
                      <a:pt x="192" y="0"/>
                      <a:pt x="113" y="4"/>
                    </a:cubicBezTo>
                    <a:cubicBezTo>
                      <a:pt x="34" y="8"/>
                      <a:pt x="0" y="66"/>
                      <a:pt x="37" y="134"/>
                    </a:cubicBezTo>
                    <a:cubicBezTo>
                      <a:pt x="74" y="202"/>
                      <a:pt x="149" y="274"/>
                      <a:pt x="24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59120" y="3584880"/>
                <a:ext cx="140040" cy="7200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03" y="195"/>
                    </a:moveTo>
                    <a:cubicBezTo>
                      <a:pt x="92" y="195"/>
                      <a:pt x="0" y="192"/>
                      <a:pt x="0" y="139"/>
                    </a:cubicBezTo>
                    <a:cubicBezTo>
                      <a:pt x="0" y="86"/>
                      <a:pt x="5" y="57"/>
                      <a:pt x="3" y="56"/>
                    </a:cubicBezTo>
                    <a:cubicBezTo>
                      <a:pt x="59" y="29"/>
                      <a:pt x="92" y="0"/>
                      <a:pt x="203" y="0"/>
                    </a:cubicBezTo>
                    <a:cubicBezTo>
                      <a:pt x="314" y="0"/>
                      <a:pt x="358" y="26"/>
                      <a:pt x="413" y="52"/>
                    </a:cubicBezTo>
                    <a:cubicBezTo>
                      <a:pt x="418" y="53"/>
                      <a:pt x="412" y="92"/>
                      <a:pt x="412" y="146"/>
                    </a:cubicBezTo>
                    <a:cubicBezTo>
                      <a:pt x="412" y="200"/>
                      <a:pt x="314" y="195"/>
                      <a:pt x="203" y="195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60920" y="3620880"/>
                <a:ext cx="137160" cy="3780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621560" y="3454560"/>
              <a:ext cx="189000" cy="210600"/>
              <a:chOff x="7621560" y="3454560"/>
              <a:chExt cx="189000" cy="210600"/>
            </a:xfrm>
          </p:grpSpPr>
          <p:sp>
            <p:nvSpPr>
              <p:cNvPr id="201" name=""/>
              <p:cNvSpPr/>
              <p:nvPr/>
            </p:nvSpPr>
            <p:spPr>
              <a:xfrm>
                <a:off x="7621560" y="3454560"/>
                <a:ext cx="189000" cy="146520"/>
              </a:xfrm>
              <a:custGeom>
                <a:avLst/>
                <a:gdLst/>
                <a:ahLst/>
                <a:rect l="l" t="t" r="r" b="b"/>
                <a:pathLst>
                  <a:path w="532" h="409">
                    <a:moveTo>
                      <a:pt x="66" y="408"/>
                    </a:moveTo>
                    <a:lnTo>
                      <a:pt x="0" y="161"/>
                    </a:lnTo>
                    <a:lnTo>
                      <a:pt x="147" y="312"/>
                    </a:lnTo>
                    <a:lnTo>
                      <a:pt x="143" y="7"/>
                    </a:lnTo>
                    <a:lnTo>
                      <a:pt x="276" y="270"/>
                    </a:lnTo>
                    <a:lnTo>
                      <a:pt x="381" y="0"/>
                    </a:lnTo>
                    <a:lnTo>
                      <a:pt x="411" y="293"/>
                    </a:lnTo>
                    <a:lnTo>
                      <a:pt x="531" y="153"/>
                    </a:lnTo>
                    <a:lnTo>
                      <a:pt x="469" y="404"/>
                    </a:lnTo>
                    <a:lnTo>
                      <a:pt x="66" y="408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44600" y="3577320"/>
                <a:ext cx="145080" cy="86400"/>
              </a:xfrm>
              <a:custGeom>
                <a:avLst/>
                <a:gdLst/>
                <a:ahLst/>
                <a:rect l="l" t="t" r="r" b="b"/>
                <a:pathLst>
                  <a:path w="409" h="242">
                    <a:moveTo>
                      <a:pt x="198" y="237"/>
                    </a:moveTo>
                    <a:cubicBezTo>
                      <a:pt x="89" y="237"/>
                      <a:pt x="0" y="233"/>
                      <a:pt x="0" y="168"/>
                    </a:cubicBezTo>
                    <a:cubicBezTo>
                      <a:pt x="0" y="103"/>
                      <a:pt x="5" y="69"/>
                      <a:pt x="3" y="67"/>
                    </a:cubicBezTo>
                    <a:cubicBezTo>
                      <a:pt x="58" y="36"/>
                      <a:pt x="89" y="0"/>
                      <a:pt x="198" y="0"/>
                    </a:cubicBezTo>
                    <a:cubicBezTo>
                      <a:pt x="307" y="0"/>
                      <a:pt x="349" y="31"/>
                      <a:pt x="403" y="63"/>
                    </a:cubicBezTo>
                    <a:cubicBezTo>
                      <a:pt x="408" y="64"/>
                      <a:pt x="402" y="111"/>
                      <a:pt x="402" y="176"/>
                    </a:cubicBezTo>
                    <a:cubicBezTo>
                      <a:pt x="402" y="241"/>
                      <a:pt x="306" y="237"/>
                      <a:pt x="198" y="23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44600" y="3621240"/>
                <a:ext cx="142200" cy="4392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027920" y="3479760"/>
              <a:ext cx="212400" cy="159840"/>
              <a:chOff x="7027920" y="3479760"/>
              <a:chExt cx="212400" cy="15984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7027920" y="3479760"/>
                <a:ext cx="212400" cy="159840"/>
                <a:chOff x="7027920" y="3479760"/>
                <a:chExt cx="212400" cy="1598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702792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4232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4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7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086240" y="3554280"/>
                  <a:ext cx="10260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1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88040" y="3584160"/>
                  <a:ext cx="10116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122960" y="3511440"/>
                <a:ext cx="20880" cy="33480"/>
                <a:chOff x="7122960" y="3511440"/>
                <a:chExt cx="20880" cy="33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131600" y="351144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7132680" y="351828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21600" h="318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7800"/>
                      </a:lnTo>
                      <a:arcTo wR="10800" hR="10800" stAng="10800000" swAng="-5400000"/>
                      <a:lnTo>
                        <a:pt x="10800" y="318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7951680" y="3479760"/>
              <a:ext cx="212400" cy="159840"/>
              <a:chOff x="7951680" y="3479760"/>
              <a:chExt cx="212400" cy="1598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7951680" y="3479760"/>
                <a:ext cx="212400" cy="159840"/>
                <a:chOff x="7951680" y="3479760"/>
                <a:chExt cx="212400" cy="1598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95168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6608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5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8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010360" y="3554280"/>
                  <a:ext cx="10224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2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010360" y="3584160"/>
                  <a:ext cx="10080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046720" y="3511440"/>
                <a:ext cx="20520" cy="33480"/>
                <a:chOff x="8046720" y="3511440"/>
                <a:chExt cx="20520" cy="3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057160" y="351144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5400000">
                  <a:off x="8056440" y="351864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8577000" y="5649480"/>
              <a:ext cx="160200" cy="187560"/>
              <a:chOff x="8577000" y="5649480"/>
              <a:chExt cx="160200" cy="187560"/>
            </a:xfrm>
          </p:grpSpPr>
          <p:sp>
            <p:nvSpPr>
              <p:cNvPr id="223" name=""/>
              <p:cNvSpPr/>
              <p:nvPr/>
            </p:nvSpPr>
            <p:spPr>
              <a:xfrm rot="10800000">
                <a:off x="857700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8591040" y="5670360"/>
                <a:ext cx="13320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89600" y="5688360"/>
                <a:ext cx="13320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0800000">
                <a:off x="8605080" y="5713200"/>
                <a:ext cx="10332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88160" y="5771520"/>
                <a:ext cx="139320" cy="2376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341" y="0"/>
                    </a:moveTo>
                    <a:lnTo>
                      <a:pt x="390" y="64"/>
                    </a:lnTo>
                    <a:lnTo>
                      <a:pt x="0" y="64"/>
                    </a:lnTo>
                    <a:lnTo>
                      <a:pt x="49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88160" y="5795280"/>
                <a:ext cx="13788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9" y="0"/>
                    </a:moveTo>
                    <a:lnTo>
                      <a:pt x="389" y="113"/>
                    </a:lnTo>
                    <a:lnTo>
                      <a:pt x="306" y="113"/>
                    </a:lnTo>
                    <a:lnTo>
                      <a:pt x="306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2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9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06920" y="5649480"/>
              <a:ext cx="160200" cy="187560"/>
              <a:chOff x="6406920" y="5649480"/>
              <a:chExt cx="160200" cy="187560"/>
            </a:xfrm>
          </p:grpSpPr>
          <p:sp>
            <p:nvSpPr>
              <p:cNvPr id="230" name=""/>
              <p:cNvSpPr/>
              <p:nvPr/>
            </p:nvSpPr>
            <p:spPr>
              <a:xfrm rot="10800000">
                <a:off x="640692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6422400" y="5670360"/>
                <a:ext cx="13356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20960" y="5688360"/>
                <a:ext cx="13356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6435360" y="5713200"/>
                <a:ext cx="10368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18080" y="5771520"/>
                <a:ext cx="138240" cy="23760"/>
              </a:xfrm>
              <a:custGeom>
                <a:avLst/>
                <a:gdLst/>
                <a:ahLst/>
                <a:rect l="l" t="t" r="r" b="b"/>
                <a:pathLst>
                  <a:path w="390" h="65">
                    <a:moveTo>
                      <a:pt x="341" y="0"/>
                    </a:moveTo>
                    <a:lnTo>
                      <a:pt x="389" y="64"/>
                    </a:lnTo>
                    <a:lnTo>
                      <a:pt x="0" y="64"/>
                    </a:lnTo>
                    <a:lnTo>
                      <a:pt x="48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8080" y="5795280"/>
                <a:ext cx="13824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8" y="0"/>
                    </a:moveTo>
                    <a:lnTo>
                      <a:pt x="389" y="113"/>
                    </a:lnTo>
                    <a:lnTo>
                      <a:pt x="305" y="113"/>
                    </a:lnTo>
                    <a:lnTo>
                      <a:pt x="305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1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8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8234280" y="5632560"/>
              <a:ext cx="200160" cy="215640"/>
              <a:chOff x="8234280" y="5632560"/>
              <a:chExt cx="200160" cy="215640"/>
            </a:xfrm>
          </p:grpSpPr>
          <p:sp>
            <p:nvSpPr>
              <p:cNvPr id="237" name=""/>
              <p:cNvSpPr/>
              <p:nvPr/>
            </p:nvSpPr>
            <p:spPr>
              <a:xfrm>
                <a:off x="82342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0" y="0"/>
                    </a:moveTo>
                    <a:cubicBezTo>
                      <a:pt x="420" y="187"/>
                      <a:pt x="263" y="72"/>
                      <a:pt x="238" y="263"/>
                    </a:cubicBezTo>
                    <a:cubicBezTo>
                      <a:pt x="435" y="229"/>
                      <a:pt x="538" y="79"/>
                      <a:pt x="461" y="185"/>
                    </a:cubicBezTo>
                    <a:cubicBezTo>
                      <a:pt x="516" y="132"/>
                      <a:pt x="528" y="163"/>
                      <a:pt x="561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2" y="512"/>
                      <a:pt x="473" y="564"/>
                    </a:cubicBezTo>
                    <a:cubicBezTo>
                      <a:pt x="444" y="572"/>
                      <a:pt x="393" y="494"/>
                      <a:pt x="388" y="489"/>
                    </a:cubicBezTo>
                    <a:cubicBezTo>
                      <a:pt x="375" y="532"/>
                      <a:pt x="334" y="635"/>
                      <a:pt x="334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8" y="1"/>
                      <a:pt x="241" y="0"/>
                      <a:pt x="420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7920000">
                <a:off x="83631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920000">
                <a:off x="8410680" y="569772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675480" y="5632560"/>
              <a:ext cx="200160" cy="215640"/>
              <a:chOff x="6675480" y="5632560"/>
              <a:chExt cx="200160" cy="215640"/>
            </a:xfrm>
          </p:grpSpPr>
          <p:sp>
            <p:nvSpPr>
              <p:cNvPr id="241" name=""/>
              <p:cNvSpPr/>
              <p:nvPr/>
            </p:nvSpPr>
            <p:spPr>
              <a:xfrm>
                <a:off x="66754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1" y="0"/>
                    </a:moveTo>
                    <a:cubicBezTo>
                      <a:pt x="421" y="187"/>
                      <a:pt x="264" y="72"/>
                      <a:pt x="239" y="263"/>
                    </a:cubicBezTo>
                    <a:cubicBezTo>
                      <a:pt x="435" y="229"/>
                      <a:pt x="538" y="79"/>
                      <a:pt x="462" y="185"/>
                    </a:cubicBezTo>
                    <a:cubicBezTo>
                      <a:pt x="516" y="132"/>
                      <a:pt x="529" y="163"/>
                      <a:pt x="562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3" y="512"/>
                      <a:pt x="473" y="564"/>
                    </a:cubicBezTo>
                    <a:cubicBezTo>
                      <a:pt x="444" y="572"/>
                      <a:pt x="393" y="494"/>
                      <a:pt x="389" y="489"/>
                    </a:cubicBezTo>
                    <a:cubicBezTo>
                      <a:pt x="375" y="532"/>
                      <a:pt x="335" y="635"/>
                      <a:pt x="335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9" y="1"/>
                      <a:pt x="241" y="0"/>
                      <a:pt x="421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920000">
                <a:off x="68043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980000">
                <a:off x="6851520" y="569736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8607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98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86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6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6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7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677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5" y="484"/>
                    <a:pt x="142" y="414"/>
                  </a:cubicBezTo>
                  <a:cubicBezTo>
                    <a:pt x="78" y="391"/>
                    <a:pt x="53" y="355"/>
                    <a:pt x="35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8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485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37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310520" y="5644800"/>
              <a:ext cx="234360" cy="197280"/>
              <a:chOff x="7310520" y="5644800"/>
              <a:chExt cx="234360" cy="197280"/>
            </a:xfrm>
          </p:grpSpPr>
          <p:sp>
            <p:nvSpPr>
              <p:cNvPr id="253" name=""/>
              <p:cNvSpPr/>
              <p:nvPr/>
            </p:nvSpPr>
            <p:spPr>
              <a:xfrm>
                <a:off x="7401240" y="5793120"/>
                <a:ext cx="56160" cy="4896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101" y="2"/>
                    </a:moveTo>
                    <a:lnTo>
                      <a:pt x="101" y="54"/>
                    </a:lnTo>
                    <a:lnTo>
                      <a:pt x="167" y="36"/>
                    </a:lnTo>
                    <a:lnTo>
                      <a:pt x="167" y="96"/>
                    </a:lnTo>
                    <a:lnTo>
                      <a:pt x="103" y="76"/>
                    </a:lnTo>
                    <a:lnTo>
                      <a:pt x="116" y="135"/>
                    </a:lnTo>
                    <a:lnTo>
                      <a:pt x="53" y="135"/>
                    </a:lnTo>
                    <a:lnTo>
                      <a:pt x="67" y="76"/>
                    </a:lnTo>
                    <a:lnTo>
                      <a:pt x="0" y="98"/>
                    </a:lnTo>
                    <a:lnTo>
                      <a:pt x="0" y="37"/>
                    </a:lnTo>
                    <a:lnTo>
                      <a:pt x="66" y="57"/>
                    </a:lnTo>
                    <a:lnTo>
                      <a:pt x="66" y="0"/>
                    </a:lnTo>
                    <a:lnTo>
                      <a:pt x="66" y="3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0800000">
                <a:off x="7411320" y="5711040"/>
                <a:ext cx="39960" cy="849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10520" y="5690880"/>
                <a:ext cx="12168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17"/>
                    </a:moveTo>
                    <a:cubicBezTo>
                      <a:pt x="324" y="28"/>
                      <a:pt x="362" y="83"/>
                      <a:pt x="324" y="152"/>
                    </a:cubicBezTo>
                    <a:cubicBezTo>
                      <a:pt x="286" y="221"/>
                      <a:pt x="191" y="274"/>
                      <a:pt x="112" y="270"/>
                    </a:cubicBezTo>
                    <a:cubicBezTo>
                      <a:pt x="33" y="266"/>
                      <a:pt x="0" y="208"/>
                      <a:pt x="37" y="140"/>
                    </a:cubicBezTo>
                    <a:cubicBezTo>
                      <a:pt x="74" y="72"/>
                      <a:pt x="149" y="0"/>
                      <a:pt x="246" y="17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23200" y="5689080"/>
                <a:ext cx="121680" cy="97920"/>
              </a:xfrm>
              <a:custGeom>
                <a:avLst/>
                <a:gdLst/>
                <a:ahLst/>
                <a:rect l="l" t="t" r="r" b="b"/>
                <a:pathLst>
                  <a:path w="363" h="274">
                    <a:moveTo>
                      <a:pt x="116" y="16"/>
                    </a:moveTo>
                    <a:cubicBezTo>
                      <a:pt x="38" y="28"/>
                      <a:pt x="0" y="83"/>
                      <a:pt x="38" y="152"/>
                    </a:cubicBezTo>
                    <a:cubicBezTo>
                      <a:pt x="76" y="221"/>
                      <a:pt x="170" y="273"/>
                      <a:pt x="249" y="270"/>
                    </a:cubicBezTo>
                    <a:cubicBezTo>
                      <a:pt x="328" y="267"/>
                      <a:pt x="362" y="208"/>
                      <a:pt x="325" y="140"/>
                    </a:cubicBezTo>
                    <a:cubicBezTo>
                      <a:pt x="288" y="72"/>
                      <a:pt x="212" y="0"/>
                      <a:pt x="116" y="16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60920" y="5646240"/>
                <a:ext cx="141120" cy="7236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15" y="5"/>
                    </a:moveTo>
                    <a:cubicBezTo>
                      <a:pt x="326" y="5"/>
                      <a:pt x="418" y="8"/>
                      <a:pt x="418" y="61"/>
                    </a:cubicBezTo>
                    <a:cubicBezTo>
                      <a:pt x="418" y="114"/>
                      <a:pt x="413" y="143"/>
                      <a:pt x="415" y="144"/>
                    </a:cubicBezTo>
                    <a:cubicBezTo>
                      <a:pt x="359" y="171"/>
                      <a:pt x="326" y="200"/>
                      <a:pt x="215" y="200"/>
                    </a:cubicBezTo>
                    <a:cubicBezTo>
                      <a:pt x="104" y="200"/>
                      <a:pt x="60" y="174"/>
                      <a:pt x="5" y="148"/>
                    </a:cubicBezTo>
                    <a:cubicBezTo>
                      <a:pt x="0" y="147"/>
                      <a:pt x="6" y="108"/>
                      <a:pt x="6" y="54"/>
                    </a:cubicBezTo>
                    <a:cubicBezTo>
                      <a:pt x="6" y="0"/>
                      <a:pt x="104" y="5"/>
                      <a:pt x="215" y="5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0800000">
                <a:off x="7363440" y="5644800"/>
                <a:ext cx="138600" cy="3780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643880" y="5637240"/>
              <a:ext cx="190440" cy="210960"/>
              <a:chOff x="7643880" y="5637240"/>
              <a:chExt cx="190440" cy="210960"/>
            </a:xfrm>
          </p:grpSpPr>
          <p:sp>
            <p:nvSpPr>
              <p:cNvPr id="260" name=""/>
              <p:cNvSpPr/>
              <p:nvPr/>
            </p:nvSpPr>
            <p:spPr>
              <a:xfrm>
                <a:off x="7643880" y="5700600"/>
                <a:ext cx="190440" cy="147600"/>
              </a:xfrm>
              <a:custGeom>
                <a:avLst/>
                <a:gdLst/>
                <a:ahLst/>
                <a:rect l="l" t="t" r="r" b="b"/>
                <a:pathLst>
                  <a:path w="533" h="410">
                    <a:moveTo>
                      <a:pt x="466" y="0"/>
                    </a:moveTo>
                    <a:lnTo>
                      <a:pt x="532" y="248"/>
                    </a:lnTo>
                    <a:lnTo>
                      <a:pt x="385" y="97"/>
                    </a:lnTo>
                    <a:lnTo>
                      <a:pt x="389" y="402"/>
                    </a:lnTo>
                    <a:lnTo>
                      <a:pt x="256" y="138"/>
                    </a:lnTo>
                    <a:lnTo>
                      <a:pt x="150" y="409"/>
                    </a:lnTo>
                    <a:lnTo>
                      <a:pt x="121" y="116"/>
                    </a:lnTo>
                    <a:lnTo>
                      <a:pt x="0" y="256"/>
                    </a:lnTo>
                    <a:lnTo>
                      <a:pt x="63" y="4"/>
                    </a:lnTo>
                    <a:lnTo>
                      <a:pt x="466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65840" y="5638680"/>
                <a:ext cx="146160" cy="85680"/>
              </a:xfrm>
              <a:custGeom>
                <a:avLst/>
                <a:gdLst/>
                <a:ahLst/>
                <a:rect l="l" t="t" r="r" b="b"/>
                <a:pathLst>
                  <a:path w="409" h="240">
                    <a:moveTo>
                      <a:pt x="210" y="3"/>
                    </a:moveTo>
                    <a:cubicBezTo>
                      <a:pt x="318" y="3"/>
                      <a:pt x="408" y="6"/>
                      <a:pt x="408" y="71"/>
                    </a:cubicBezTo>
                    <a:cubicBezTo>
                      <a:pt x="408" y="136"/>
                      <a:pt x="403" y="170"/>
                      <a:pt x="405" y="172"/>
                    </a:cubicBezTo>
                    <a:cubicBezTo>
                      <a:pt x="349" y="204"/>
                      <a:pt x="318" y="239"/>
                      <a:pt x="210" y="239"/>
                    </a:cubicBezTo>
                    <a:cubicBezTo>
                      <a:pt x="102" y="239"/>
                      <a:pt x="58" y="208"/>
                      <a:pt x="5" y="177"/>
                    </a:cubicBezTo>
                    <a:cubicBezTo>
                      <a:pt x="0" y="176"/>
                      <a:pt x="6" y="128"/>
                      <a:pt x="6" y="64"/>
                    </a:cubicBezTo>
                    <a:cubicBezTo>
                      <a:pt x="6" y="0"/>
                      <a:pt x="101" y="3"/>
                      <a:pt x="210" y="3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0800000">
                <a:off x="7668720" y="5637240"/>
                <a:ext cx="143280" cy="460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923240" y="5661000"/>
              <a:ext cx="212760" cy="161640"/>
              <a:chOff x="7923240" y="5661000"/>
              <a:chExt cx="212760" cy="1616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923240" y="5661000"/>
                <a:ext cx="212760" cy="161640"/>
                <a:chOff x="7923240" y="5661000"/>
                <a:chExt cx="212760" cy="161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2324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5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92432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75080" y="5691600"/>
                  <a:ext cx="10404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0800000">
                  <a:off x="7977600" y="5691240"/>
                  <a:ext cx="10260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8018640" y="5758920"/>
                <a:ext cx="20520" cy="33480"/>
                <a:chOff x="8018640" y="5758920"/>
                <a:chExt cx="20520" cy="33480"/>
              </a:xfrm>
            </p:grpSpPr>
            <p:sp>
              <p:nvSpPr>
                <p:cNvPr id="270" name=""/>
                <p:cNvSpPr/>
                <p:nvPr/>
              </p:nvSpPr>
              <p:spPr>
                <a:xfrm rot="10800000">
                  <a:off x="8029800" y="575892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6200000">
                  <a:off x="802836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999120" y="5661000"/>
              <a:ext cx="212760" cy="161640"/>
              <a:chOff x="6999120" y="5661000"/>
              <a:chExt cx="212760" cy="1616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999120" y="5661000"/>
                <a:ext cx="212760" cy="161640"/>
                <a:chOff x="6999120" y="5661000"/>
                <a:chExt cx="212760" cy="161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99912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4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00020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052400" y="5691600"/>
                  <a:ext cx="10368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800000">
                  <a:off x="7053840" y="5691240"/>
                  <a:ext cx="10224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094520" y="5758920"/>
                <a:ext cx="20520" cy="33480"/>
                <a:chOff x="7094520" y="5758920"/>
                <a:chExt cx="20520" cy="33480"/>
              </a:xfrm>
            </p:grpSpPr>
            <p:sp>
              <p:nvSpPr>
                <p:cNvPr id="279" name=""/>
                <p:cNvSpPr/>
                <p:nvPr/>
              </p:nvSpPr>
              <p:spPr>
                <a:xfrm rot="10800000">
                  <a:off x="7106040" y="575892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16200000">
                  <a:off x="710424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стижения  Марины                   на этой  недел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35400" y="2160720"/>
            <a:ext cx="4106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олучила  за выполнение  контрьных работ  по  алгебре и  биологии пятерки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заняла  первое  место  в конкурсе  рисунков  о  весне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риняла  активное  участие  в  озеленении  школьного  двора,  высадила  рассаду  астр на  клумбы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60360" y="2700360"/>
            <a:ext cx="288000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41240" y="744480"/>
            <a:ext cx="86076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Поздравляем  Марин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 </a:t>
            </a: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с  присвоением  звания 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284c"/>
                </a:solidFill>
                <a:latin typeface="Arial"/>
                <a:ea typeface="Arial Unicode MS"/>
              </a:rPr>
              <a:t>УЧЕНИЦА  НЕДЕЛ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  <a:ea typeface="Arial Unicode MS"/>
              </a:rPr>
              <a:t>Желаем  дальнейших 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1:50Z</dcterms:created>
  <dc:creator/>
  <dc:description/>
  <dc:language>en-US</dc:language>
  <cp:lastModifiedBy>imc</cp:lastModifiedBy>
  <dcterms:modified xsi:type="dcterms:W3CDTF">2013-02-13T06:56:27Z</dcterms:modified>
  <cp:revision>1</cp:revision>
  <dc:subject/>
  <dc:title>Сергеева  Марина</dc:title>
</cp:coreProperties>
</file>